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56C-AEA6-4C3E-9AA9-F456D963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4E1-0528-480A-B8DB-7DED2822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AE0-EB2F-4B42-B3B5-8B28F6CF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F9B-4003-464A-94F3-952A40DA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E98-328F-4B63-80F5-28844A6C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30E-AC76-46F0-B5BC-99261E82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D62-FBFE-43D3-9C23-225396B3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485-8F0C-475E-9DDE-95D195FB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7BF-CCF0-472A-A63C-F92003AA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D00-2431-4AD9-8CA9-2D52CFF8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68D-CE93-47E8-9EA9-25904E2B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9E3-6918-4A28-BC9F-8EEA8952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494A-D61F-4F57-B8A0-AB10CC0B36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Addition, subtraction, and scalar operatio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Addition and subtrac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ddition and subtraction of matrices can only be performed if the matrices are of the same order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ddition and subtraction of matrices is performed by adding or subtracting the corresponding element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16B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Scalar multiplica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a matrix is multiplied by a scalar, each element of the matrix is multiplied by the scalar. The order of the matrix is unchange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16B, Q.5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16B, Q. 2, 3, 6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Properties of addition of matrices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Object 2"/>
          <p:cNvGraphicFramePr/>
          <p:nvPr/>
        </p:nvGraphicFramePr>
        <p:xfrm>
          <a:off x="4929120" y="4857840"/>
          <a:ext cx="19224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9120" y="4857840"/>
                    <a:ext cx="1922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5"/>
          <p:cNvGraphicFramePr/>
          <p:nvPr/>
        </p:nvGraphicFramePr>
        <p:xfrm>
          <a:off x="5786280" y="4857840"/>
          <a:ext cx="19224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6280" y="4857840"/>
                    <a:ext cx="1922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71680" y="2071800"/>
          <a:ext cx="8001000" cy="451476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tative (doesn’t matter which or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+ B = B +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ociative (doesn’t matter where the brackets 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 + B) + C = A + (B + 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kc)A = k(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+ O = O +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+   A = O = 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+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bu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 + kB = k(A + 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 + cA = (k + c)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Simple matrix equation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Simple matrix equations that require the addition or subtraction of a matrix or multiplication of a scalar can be solved in a similar way to algebraic equation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16B, Q.7, 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16B, Q. 10, 12, 13, 1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1:27:18Z</dcterms:created>
  <dc:creator>08843474</dc:creator>
  <dc:description/>
  <dc:language>en-US</dc:language>
  <cp:lastModifiedBy>08843474</cp:lastModifiedBy>
  <dcterms:modified xsi:type="dcterms:W3CDTF">2011-05-09T05:03:46Z</dcterms:modified>
  <cp:revision>4</cp:revision>
  <dc:subject/>
  <dc:title>Matrices</dc:title>
</cp:coreProperties>
</file>